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5A11-8352-472B-AD09-9963014D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9047-6C96-4F6D-8659-543B3D34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8B2F-1126-4257-A32C-DAED2C9A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E5E0-7A1E-404D-89DD-4C18208E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3466-DE09-4D8B-99DA-B078BCB5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3511-FD3B-4637-B544-32D005D8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191A-1191-4251-8E83-C85715C1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38B2-7931-41BE-83D0-4922A42C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D8E-6437-4CCB-8C0E-49D40D0E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4F87-AEF3-4A1D-9924-C9452113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2B64-6830-4A6D-BC6B-C9427C7B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521C-8758-4AD8-9D7C-CEE58312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5096-0D8B-40D7-ACA0-BA8EBC3CD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ablo_picasso_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icasso_three_musicians_moma_2006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Dora_Maar_Au_Chat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en.wikipedia.org/wiki/File:Gar&#231;on_&#224;_la_pipe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en.wikipedia.org/wiki/File:2004-09-07_1800x2400_chicago_picasso.jp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icassoGuernica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en.wikipedia.org/wiki/Bombing_of_Guernica" TargetMode="External"/><Relationship Id="rId4" Type="http://schemas.openxmlformats.org/officeDocument/2006/relationships/hyperlink" Target="http://en.wikipedia.org/wiki/Bombing_of_Guernica" TargetMode="External"/><Relationship Id="rId5" Type="http://schemas.openxmlformats.org/officeDocument/2006/relationships/hyperlink" Target="http://en.wikipedia.org/wiki/Spanish_Civil_War" TargetMode="External"/><Relationship Id="rId6" Type="http://schemas.openxmlformats.org/officeDocument/2006/relationships/hyperlink" Target="http://en.wikipedia.org/wiki/Guernica_(painting)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762120"/>
            <a:ext cx="3504960" cy="19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ablo Picasso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95720" y="2743200"/>
            <a:ext cx="2532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4572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Pablo Pica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371600"/>
            <a:ext cx="670536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rn October 25, 1881 -  Died April 8, 19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nish painter, draughtsman, and scul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 know for wide variety of style in his work – especially  the Cubist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ll name is Pablo Diego José Francisco de Paula Juan Nepomuceno María de los Remedios Cipriano de la Santísima Trinidad Ruiz y Pica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2309760"/>
            <a:ext cx="4724280" cy="425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480" y="2287440"/>
            <a:ext cx="3276720" cy="24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9360" bIns="9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ubist artworks, objects are broken up, analyzed, and re-assembled in an abstracted form—instead of depicting objects from one viewpoint, the artist depicts the subject from a multitude of viewpoints to represent the subject in a greater con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800" y="228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ub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0666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sm was a 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ury art movement pioneered by Pablo Pic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59436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ree Musicians, 19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77120" y="3809880"/>
            <a:ext cx="2311200" cy="2781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324480" y="533520"/>
            <a:ext cx="2406600" cy="2895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657600" y="3352680"/>
            <a:ext cx="2027160" cy="2438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57200" y="457200"/>
            <a:ext cx="2311560" cy="2781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533520" y="4038480"/>
            <a:ext cx="2090520" cy="2514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3429000" y="838080"/>
            <a:ext cx="2619360" cy="128592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ablo Picasso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4880" y="457200"/>
            <a:ext cx="184788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3657600"/>
            <a:ext cx="2308320" cy="2886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80120" y="762120"/>
            <a:ext cx="2624040" cy="3504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4120" y="51055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ulpture in Chic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28600"/>
            <a:ext cx="6858000" cy="4457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5105520"/>
            <a:ext cx="729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ably Picasso’s most famous work is his depiction of the German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ombing of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Guerni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uring th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panish Civil W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Guerni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2857320" cy="3467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724280" y="457200"/>
            <a:ext cx="2667240" cy="2071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800600" y="2819520"/>
            <a:ext cx="285768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6:31:02Z</dcterms:created>
  <dc:creator>Patrick J. Mooney</dc:creator>
  <dc:description/>
  <dc:language>en-US</dc:language>
  <cp:lastModifiedBy>Patrick J. Mooney</cp:lastModifiedBy>
  <dcterms:modified xsi:type="dcterms:W3CDTF">2010-01-11T17:02:34Z</dcterms:modified>
  <cp:revision>2</cp:revision>
  <dc:subject/>
  <dc:title>Slide 1</dc:title>
</cp:coreProperties>
</file>